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E8B-0029-4D30-A74A-641911E6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B11-8557-4071-BC53-90CB2935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E8A-30B8-404F-AB01-281228BB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249-F003-4A27-9EED-BAE6ACB0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C0C-26E3-418D-8B7F-B26C21EA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0C3F-FABC-4BE6-A5A4-66990EF8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A79-493E-4118-8312-20A95A58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CD8-C4C2-4B90-A5EA-DB18F14F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B87-77DE-4F5E-A753-FA0CD649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601-CF48-4CE4-8A34-51388C80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066-5F08-46D6-80F3-E8E9E9BD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021-5BBB-4D1F-9D64-1D642669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037F-F803-48EA-8547-C7AC6E779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 use case and create a collaborative group to build a POC that demonstrates the secondary use of EMR data for patient recruitment for clinical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use case g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mezie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hel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: y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ro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jay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yotishma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ne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: Qualified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e Allen/VA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ie – share with Lill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: Product uses machin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: Good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ian: Good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c N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anne 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patients may not be available in the E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ness of Inclusion/Exclus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incorporate the hard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of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ther aspect of EMR shipping to th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Database and a funder of clinical 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into EMR system…. Need for mapping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equired for regulatory agencie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s with Machine Learnining Soci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s of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rater reliabi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ag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nation, 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pul: Will try to get som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: choose criteria to reduce the type of anonymyz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develop specific criteria and data requirements spread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nonymy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hould come from at least two sources if not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rge Allen – college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– Get back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nen Fox: Hopefully at leas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yotishman: Get back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Marshall: 1 student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anne: Get back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ron: Get b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hel: 2 students or 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chel: 1 day/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an: Get back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ic: U Cincinnati – Bruce Aronow’s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it Sheth’s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mezi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pul: 1 day/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ie: ! Stu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:  1 day/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us: something more concr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rian – Rule bases applications … need to de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rete Projec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t on the next Tel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o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: Federally mandate barrier… Clinicians cannot refer patients for research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earcher can find cohort and go to the clin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21:50:45Z</dcterms:created>
  <dc:creator>Partners Information Systems</dc:creator>
  <dc:description/>
  <dc:language>en-US</dc:language>
  <cp:lastModifiedBy>Partners Information Systems</cp:lastModifiedBy>
  <dcterms:modified xsi:type="dcterms:W3CDTF">2007-11-08T23:01:56Z</dcterms:modified>
  <cp:revision>2</cp:revision>
  <dc:subject/>
  <dc:title>Brainstorming</dc:title>
</cp:coreProperties>
</file>